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61B-A629-4CFD-84C0-DF5D6340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EB9-57D5-4C96-ACE5-C2FCEF86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F2E-1E94-4A50-9C6D-6A339EF9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B12-7C1B-4230-8156-E1257A38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2C0B-CAE2-4BDA-9283-85D6CB14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FFC3-2FFA-4FAE-8A1A-FE46DE07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89B7-E3F2-46B8-9C86-0BDB64BB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80F8-2A98-4B3C-ABD5-E838159D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7636-6530-431D-9562-3007AAEC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A3E5-8732-459E-B886-D3B2B3D9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D5F0-2AD3-4A7F-B7E4-348B808F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A30-D902-4CFD-B385-3F59BCF9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1CEC-278D-4FA7-A99F-78B50A80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655D-9794-4F64-A471-7E68BB68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B521-54D1-48B7-9542-BEFB3770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78BA-C279-4B8F-B2F4-6BEC73B3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EA20-DD5F-413B-9C19-B7F238E5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34E-C369-4B93-935A-CE020EC2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9B4-52F7-4E37-8A98-04F60E72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A8C-D047-4768-9713-5167CB0A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7E8-D8A8-4B68-901F-A543FAC5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6CC-12ED-4E65-BFAE-843F3970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A77-3ACB-43BF-8AA0-25892C56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98C-AA4A-44BB-9765-97358191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BFA3-0C8F-4689-9436-1AE28AE7C96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" name=""/>
          <p:cNvGraphicFramePr/>
          <p:nvPr/>
        </p:nvGraphicFramePr>
        <p:xfrm>
          <a:off x="5867280" y="5943600"/>
          <a:ext cx="2971800" cy="71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5943600"/>
                    <a:ext cx="29718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2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6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9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14D3-4291-4DEB-9489-60473C82966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438280" y="4267080"/>
          <a:ext cx="4648320" cy="112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267080"/>
                    <a:ext cx="464832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 Narrow"/>
              </a:rPr>
              <a:t>Selling Skills</a:t>
            </a: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Identifying need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Questioning techniqu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be, listen, confi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ake no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ad memory, adds credibil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gree prior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Present your cas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ersuasive langua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Use visual promp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alk benef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Offer proof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ummarise progr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heck understan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Understand your product of servic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What are th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Types of Objec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Not my decision alo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Hass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path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imesca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Cashing in on objec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lan and coun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eck out unspoken objec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ise issue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void arguments/confront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gree in pa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turn a question with a ques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larif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nfirm decision make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/budge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Types of clos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irect reques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lternativ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ombined solu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Final objection – ‘if’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ssumptive clo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ecommended clo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dd-on clo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Winning commitmen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isten for buying signal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rial clo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ased on communication sty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hoosing the right typ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Inject urgenc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Use ‘yes’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It’s not over til it’s ove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Follow 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e persistent and systemati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Keep in tou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Keep your promis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Welcome complaint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nd do something about th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ay thank yo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Customer car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It costs five times as much to get a single customer as it does to keep one you already ha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spe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Understand your custo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esent benefits/solu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al with objec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lose and comm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Follow u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fter ca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Planning and Prepara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17560" y="2347560"/>
            <a:ext cx="75088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et clear objectiv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Understand your market nee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Understand your produ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cord and review previous conta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nticipate objec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nsider sales ai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member you appear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Finding Prospect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87720" y="1980720"/>
            <a:ext cx="494496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80/20 ru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Existing/lapsed custom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ecision make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Cluster princip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o it oft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Finding Prospect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98800" y="2311560"/>
            <a:ext cx="494640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ake networking wor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Keeping recor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ateral think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ake appoint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nfirm meeting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on’t give u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Make a good first impress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Your appeara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Your sales materi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Your voi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Your plan of action (= contro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Your vehic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Your impact on other staff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Why people bu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ppeara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mil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 positive attitu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Salesperson confid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Why people bu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 firm handshak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Honest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A clear and articulate voi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he salesperson’s experi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he salesperson’s abilit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to list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Understanding customer styl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Understand their typ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apport and NL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espect their view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isten activel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Use positive langua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Note body languag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Spin techniqu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tuation Ques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How’s busin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blem ques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y is it a proble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lication ques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are the implic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eed ques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do you think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ould hel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9T14:19:24Z</dcterms:created>
  <dc:creator>Frances Crick</dc:creator>
  <dc:description/>
  <dc:language>en-US</dc:language>
  <cp:lastModifiedBy>Jayesh Patel</cp:lastModifiedBy>
  <cp:lastPrinted>2000-01-02T14:33:34Z</cp:lastPrinted>
  <dcterms:modified xsi:type="dcterms:W3CDTF">2001-08-18T15:48:55Z</dcterms:modified>
  <cp:revision>28</cp:revision>
  <dc:subject/>
  <dc:title>Photovoltaics</dc:title>
</cp:coreProperties>
</file>