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702-E06B-4637-9BA2-7559871B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2D1-5E2E-4DEB-9876-C3D29FD6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74C-F249-4B1E-8E4A-A0842758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8D7-4396-4293-9EE5-F63B7F65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83AB-FF0E-45FE-8786-C255A756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2FB7-802C-4222-8EBE-E9F0A2D1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20F4-4962-4C71-919F-EAE6933C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5E72-1094-43F5-A069-1AEDF96D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C60D-F6E7-4B0A-ADCD-136AC9A8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BF4E-4F9F-4BF8-965B-A07CEB10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12E0-A146-41F4-B292-B45D9D0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71C-6CC8-45BB-88D7-882CFA6D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7201-AB81-4805-B33D-B8E7881F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8B21-832E-450E-8E6B-CFFEB05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734A-9E09-4318-8533-A2CDD1C8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1BFF-8A33-4920-99C7-4C0758D9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B160-993A-4A0D-BCC6-F42AB6BA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9B9-7D79-44E8-A3D8-1CD42B55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881-4FA3-4515-ACF8-CA5039E5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4D3-235D-4BE7-9A58-584D8151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60A-96E0-4CBC-809E-9901B6DB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152-9A3D-4FB6-ABAB-40671A1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C4B-8FEA-47E8-A2A0-93628A7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FEC-A01F-41AD-8215-A41E7BA3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FF7A-94E4-4A08-8656-7C4B348A8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D3E2-7AB9-4DD3-9BB5-8CC5F0E63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0570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057400" y="5105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d by Mearsecroft Limi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4862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28600"/>
          <a:ext cx="464832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most valuable resource within the organisation is tim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 management will contribute towards controlling, allocating and managing time effectivel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bsence of effective time management can be categorised a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st minutes rushes to meet deadline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booking time for meeting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nproductive day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ordinate stress leading to poor performanc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mptoms of over confidence which will adversely affect projects and workload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rsonal time management technique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liminate wastage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e prepared for meeting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fuse excessive workload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nitor project progres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locate resources (time) appropriate to a tasks importanc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nsure that long term projects are not neglecte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lan each day efficiently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lan each week according to the activities or project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disposal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me can simply be wasted regardless of planning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may be a daily plan or structure, but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is inevitable to have telephone calls, distractions or conversation with colleagues which will all contribute towards lost tim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liminating time wastage – keep a log that allows notes to be made where time is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constructive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sed and where it is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unconstructivel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asted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n activities for the day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dicate the free time that is available through the day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st contingency work in case of delays or chang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itiate time saving method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ue to the lack of skills there are times when staff will call upon seniors  to provide help and expertise. This will involve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aking time out of the schedule to offer assistanc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verlooking juniors or trainee colleagu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swering any quest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t is important to acknowledge these interruptions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sider the time log and allocate spare time accordingl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-schedule the daily work pla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lay responses to fall into the daily pla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ormalise training sess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51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legati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ssign as many tasks as possible to other peopl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ministrative duties can be carried out by office secretari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ject summaries can be done by junior team member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tretch people by setting new challeng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ust your staff – you employed them!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ointments and meeting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se can take up a significant portion of the day and for effective time management it is essential to keep a dairy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importance of the diary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lete list of all the known appointments and meetings for the foreseeable futur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ily pla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ree time indicator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mory jogger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e meeting prepara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history book – read and lear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sider shared diaries – easier to arrange larger meeting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ointments and meeting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activities which may take longer than anticipated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eeting or conferenc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ng lunch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formal ‘chats’ with managers or directo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ist on time boundar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lain commitments from the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cheduling project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adlines are important and the deliverables include time management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sonal time management of project have similar techniques: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eck the specification – what is to be delivered and whe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reak down tasks into small section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chedule reviews for progress – respond quickly to any obstacles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nitoring staff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me management effects other people – allocating tasks which they can also manage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ny delegated task should have a agreed date for submiss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firm what should be delivered on completion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cument delivery dates in diary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ree when it is feasible to deliver the task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sure that there is enough time allocated if schedules are changed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Most importantly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ff0000"/>
                </a:solidFill>
                <a:uFillTx/>
                <a:latin typeface="Times New Roman"/>
              </a:rPr>
              <a:t>Allocate time to time managemen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11:38:50Z</dcterms:created>
  <dc:creator>Faculty Of CSE</dc:creator>
  <dc:description/>
  <dc:language>en-US</dc:language>
  <cp:lastModifiedBy>Faculty Of CSE</cp:lastModifiedBy>
  <dcterms:modified xsi:type="dcterms:W3CDTF">2001-08-10T10:20:31Z</dcterms:modified>
  <cp:revision>6</cp:revision>
  <dc:subject/>
  <dc:title>Presentation Slides Time Management</dc:title>
</cp:coreProperties>
</file>