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374-1AFB-490C-A3E4-CB86889A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AAC-4397-4B60-9F40-697116DB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2CF-FA9D-4870-AA0C-71AB01CB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89B-4670-4AD1-B65D-AE7AEA66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42FE-83F8-4808-89F6-C545BD85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2324-8C7B-48D6-B112-1998FB5D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658A-A7B6-462B-A674-CA5F8779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EB33-365F-4E27-B301-778EB1DA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745E-56BD-49E7-8C92-1B158BE6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6A8D-9288-4817-88B4-09776C95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3013-E150-4854-95E3-F6D2EC5B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652-5534-457B-8706-89F41ED9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B479-FC09-4BFB-90D5-BBEE814D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2556-4565-41B0-946E-39B23F02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4658-ED88-4A4A-AC6A-9380DCD8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6F76-5C78-415E-B935-1971C5BE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EA55-669F-4CC4-B5C8-BBD32A22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40D-EB84-4171-83A4-84518DBB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169-9879-4F33-9D36-49CDAD52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744-3737-44D8-80A5-2EF6DA51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1B9-5F80-4999-A57D-97DAF738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844-BAF8-44C3-BEA9-39F48B00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6BF-41CF-43B7-B5C1-6E3473ED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510-32D8-4276-B177-B2BB25BD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C0E3-FCB0-4055-BC66-F405E8188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5867280" y="5867280"/>
          <a:ext cx="2971800" cy="71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5867280"/>
                    <a:ext cx="297180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2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6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9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F29D-06B5-4F80-BB34-D292B1723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45720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 by Mearsecroft Limi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43200" y="228600"/>
          <a:ext cx="464832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464832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sk management seeks to tackle at least on of the three elements of risk by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ucing the likelihood of the hazard occurring (P(h) = potential of hazard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ucing the likelihood of the hazard leading to accident or loss (P(a) = potential for accident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ucing the amount of loss (L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 = P(h)  x  P(a)  x  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Assessment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identification produces a risk items checklists, comparison with experience (assumption analysis), decomposition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analysis assesses the loss probability and magnitude for each item, performance and cost models, statistical decision analysi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prioritisation produces a ranked ordering of risk items, a risk exposure analysis and risk leverage (cost benefit analysis)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-management planning helps you address each risk item - avoiding (relaxing requirement), transferring (sub-contracting) or reducing (insuring) risk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resolution produces a situation where risk items are eliminated or resolved - prototypes, simulations, analyse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monitoring involves tracking progress toward resolving risk items and taking corrective action against agreed milestone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0" name="RISKMAN-I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09880" cy="3643200"/>
          </a:xfrm>
          <a:prstGeom prst="rect">
            <a:avLst/>
          </a:prstGeom>
          <a:ln w="0">
            <a:noFill/>
          </a:ln>
        </p:spPr>
      </p:pic>
      <p:pic>
        <p:nvPicPr>
          <p:cNvPr id="151" name="RISKMAN-I4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isk Management Plan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isk can be categorised in two areas, project and technical risk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ject risks are those concerned with schedule, personnel or requirements problem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chnical risks are those associated with design, implementation and maintenanc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may be risks associated with specification ambiguity, technical uncertainty, and technical obsolescence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s can occur because a problem is harder to solve than the project team anticipated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isk Analysis and Identific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ject Risk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……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am member is unclear about the project specification?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cular phase of the project overruns?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project team becomes ill or is absent?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ject teams leaves?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am find that they have insufficient knowledge of the development language used?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am members cannot gain access to facilities?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sk Analysis and Identifi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chnical Risk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….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rt of the project cannot be implemented?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quipment become faulty?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team discovers the software used to develop the system is unstable and prone to crashing?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team decide that UML is unstable for designing the project?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l/part of the project is lost due to viruses?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team cannot install/configure some of the software used in the project?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me question to consider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stimation phase rates each risk according to the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kelihood of the ris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sequences associated with the ris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it occur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assessment involves examining the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curacy of the estimates made in ris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tion in order to prioritise those risk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Management involves detailing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ingency plan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show how the project team will react if any problems actually occur, and some </a:t>
            </a:r>
            <a:r>
              <a:rPr b="0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active measur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can be taken when they occur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risk?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sk is an element of uncertainty, which could result in loss, damage, or any other undesirable even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st people would choose a low risk, that i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 probability of success, profit, or some form of gain with little risk factor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most any change good or bad involves risk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vertime cost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ventory shortage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ture sale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ological survey result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nel fluctuation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ing labour cost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vernment approval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icipating risk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sens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t feeling, something doesn’t feel righ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t experienc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rning from previous mistakes, or better still, other’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rical data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r experience is limited, databases of past events and outcom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1640" y="18288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ols and aid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 lis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ult/event tre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ision tre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ependent assesso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ts within the organis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be able to spot things that may be missed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ive thinkin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tting unprecedented risks by asking creative questio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the risks have been identified, a model can help quantify the risks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fying risk – means putting a price on risk, and deciding whether it is worth taking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egories of ris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arket or the requirements may not materialis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s may not pay the pric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etitors leading in the marke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 acceptanc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s required may not be delivered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irements not established correct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 or quality beyond current technological capabilit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kills and abilities not availabl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able to understand the processe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duct is dependent on the successful development of another product or compon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ird parties may not deliver a product or componen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tigating ris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oidanc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ort pla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cape clause in contrac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ve risk with custome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ferenc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contract to those more able to handle the risk facto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 capital equipme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itudes may either be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React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respond when things go wrong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roact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forward planning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and fault tree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’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cribe system events and consequential failures – accident sequence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 is made up of a sequence of events constructed using deductive (forward) logic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T’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cribe ways in which a system involved in an accident can fail – relationships among events leading to an undesirable event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T are developed using inductive (backward) logic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RISKDECISION-I1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38098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sk Management compromises 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k Assessment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entifying and analysing risk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k Control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king steps to reduce risk, providing contingency, monitoring improvement et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RM is important for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suring that a project is not succoured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venting accidental loss or damag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oiding fraud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suring smooth running of system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aining career prospect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0" name="RISKMAN-I1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746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ways of thinking about Risk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ntitative Risk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hematical and statistical calculation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erministic Decision maki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ially Constructed Risk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ople’s perceptions of risk is much different from calculation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ineers’ perceptions affect their calculation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litative Risk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ompromise between the quantitative and social school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ful for prioritising risk mitigation tactic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08:56:12Z</dcterms:created>
  <dc:creator>Faculty Of CSE</dc:creator>
  <dc:description/>
  <dc:language>en-US</dc:language>
  <cp:lastModifiedBy>Faculty Of CSE</cp:lastModifiedBy>
  <dcterms:modified xsi:type="dcterms:W3CDTF">2001-08-13T14:22:29Z</dcterms:modified>
  <cp:revision>26</cp:revision>
  <dc:subject/>
  <dc:title>Project Management</dc:title>
</cp:coreProperties>
</file>