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FD96-3489-492A-97D5-47415AD14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0E06-688A-479C-942E-F0289F0E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97FB-AAB7-472D-BC35-09B581AA1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57A7-1EEE-4080-B55A-98E1A4B87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C398-7154-4B90-AADE-9F785993B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C689-D73D-457F-8BAC-4CEA230C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316A-4A0F-45F4-BE9E-64416A13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62DA-77F0-43EC-B346-1E6BCCBB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F6CE-4FB9-4AF3-92B5-64D13740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8BD0-3876-4A8D-9A19-12ECEBF2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1404-5312-4489-89C7-99DDB7A4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8EFE-C7E1-49B4-AD85-8EA5297B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8D5B-E664-4BFF-9281-93121AC1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2BA6-6144-4A6C-A2D7-D36EE135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E2A8-FA46-4BAB-9CB6-498D88A7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E07F-8FE2-4946-ADC7-355F13612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FF583-CE2C-424D-A4A5-97AF4C8A6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BD1C-24D6-44DE-A1D1-07764EE0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24B3-576E-43A3-872E-ACC73B5C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4A2A-D5F2-4C9C-884F-B0737580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BE5E-9A61-4FDE-86CD-B3CFB24D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233F-FF03-4344-B614-55984409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61A5-BE6B-44CE-8263-2C200509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42A8-F520-47AE-BC95-7B284CCB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6ED7-12E1-4A74-AE55-C20DE8949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" name=""/>
          <p:cNvGraphicFramePr/>
          <p:nvPr/>
        </p:nvGraphicFramePr>
        <p:xfrm>
          <a:off x="5867280" y="5943600"/>
          <a:ext cx="2971800" cy="717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5943600"/>
                    <a:ext cx="297180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2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6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7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9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4346-CAC2-4485-8690-81D71F6D9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lity Within Team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514600" y="441936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d by Mearsecroft Limit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743200" y="228600"/>
          <a:ext cx="4648320" cy="11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28600"/>
                    <a:ext cx="4648320" cy="11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ality is important within working practices and in delivering a product or service – will contribute towards overall achievement (team)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ality is concerned with the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expect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custom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addressing their needs –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customer satisfa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ality is about how well a job is done –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feel good fac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iability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suring quality through testing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uality (zero defects) built with no problem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ectation: no matter how good the quality of a product, it can still be improved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in people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st valued resource within any organisation and deliverers of quality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uality circles – conceived as developing skills and knowledge in order to deliver quality by means: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lding meeting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to analyse problem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king decision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ing solution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lementing and evaluating change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am quality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eds to be built within teams – each person possesses quality but the team leader has to bring out the best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best ideas come from team players but they need to be prompted by leaders: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 enthusiastic, find a problem and start talking and gather ideas from the whole team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ve regular meetings to discuss quality.  Acknowledge the benefits, make it a habit and the responsibility for the whole te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am quality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tablish ground rules and regulation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training and development is needed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is the quality criteria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can they be achieved?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ining and development should be a key principle for a team and should be encouraged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cus on the right problem – can the team tackle it!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lated to their own working environment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mething which they can change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62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am building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force quality issues within team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14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an environment where each person can express their idea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14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idea is wrong – merely non optimal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rite down ground rules and display them as a constant reminder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91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criticis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must be kind and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constructive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our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problem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</a:rPr>
              <a:t>al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ur problems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gs wanted: dead or alive, but not for long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it saves time later, do it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 now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7960" y="228564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lk about the group as the plural pronoun: “we decided” or “we can do..”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utual coaching – share techniques and information with the team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ise confidence and self esteem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person will learn more if the whole team is at the same level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ality control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ther quality statistics – benefits in applying quality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t identifies (the extent of) the problem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t allows progress to be monitored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t provides an objective criterion for the abandonment of an idea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t can justify perceived expense in terms of observed savings/improvement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t motivates staff by providing a display of achievement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Clarity of purpose is the key to success – a simple stated objective that everybody understands and can see as achievable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 plan to improve the quality or effectiveness of the team must contain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objective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thod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statistical display for monitoring the outcome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agreed criteria for completion or curtailment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6T12:40:36Z</dcterms:created>
  <dc:creator>Faculty Of CSE</dc:creator>
  <dc:description/>
  <dc:language>en-US</dc:language>
  <cp:lastModifiedBy>Geoffrey Brown</cp:lastModifiedBy>
  <dcterms:modified xsi:type="dcterms:W3CDTF">2001-08-08T08:53:16Z</dcterms:modified>
  <cp:revision>6</cp:revision>
  <dc:subject/>
  <dc:title>Quality Within Teams</dc:title>
</cp:coreProperties>
</file>