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584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21A4-DBD5-4DB3-B8E5-49853D7955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–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-operative and supportive management sty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ear stand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jective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ffective recognition of achie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cesses 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fying improvement 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tting up projects to tackle and resolve the opport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itment 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ing sure that each individual understands their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ing sure that each individual understands their customers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rovement cannot succeed without communication of the need and change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ining is an essential part of both implementing change and maintaining the impr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88F-7478-4138-A9B5-AFB3BB9B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83D-F989-451C-B65C-1C7F5D99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AA9-E1AB-4526-8189-F58C8904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822-E72D-4AC7-BE17-C3C3184F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0C4D-FE78-4A0F-B9B5-AA5D6CA1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4C16-2DB9-4CE5-B91D-0523D4C9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DE71-45C8-44E1-8EC6-42693659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91A6-E20F-48F9-9A70-91F374B9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B2AB-3B81-445A-8F08-977AD120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0C78-F64D-4208-935A-3D73DA61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D8F1-7F1D-4566-B6EC-95976D8D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4E1-E28B-496D-8DBE-07E5A408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ED47-9533-4CE5-931E-5D3AEE4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1519-23F7-4E60-866F-7A30F0EB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9089-6A0B-4DEF-985F-E87EA49B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BF11-6D42-4E0B-BC10-D1FCCD43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76F9-68BC-4218-B10A-4EF27D8D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384-E04A-45BA-A556-A1099340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13C-3177-4356-9F73-4EA9A88E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F02-1FFC-4790-A701-DFF97BA8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5EC-2381-4214-AEED-E5E2C50C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449-3B86-43DD-AD11-A01DF84D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FA6-ADF5-40D4-89E5-178C9F53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644-26A6-4997-8C9C-2251EAED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DAC5-1C73-4083-B04E-4BD57EB5D1B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5867280" y="5867280"/>
          <a:ext cx="2971800" cy="71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867280"/>
                    <a:ext cx="297180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A799-2BA8-43F6-A27C-009B7B2ECAD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743200" y="4572000"/>
          <a:ext cx="4648320" cy="11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4572000"/>
                    <a:ext cx="46483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800" y="21337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Delivering Quality</a:t>
            </a: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715000" y="30477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- a project approa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5 Stage Project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mprovement opportunity identifi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an come from anywhere in the organis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5 Stage Project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ject sele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lected by steering gro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lected by agreed criteria based on business nee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riteria may change over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Ear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obability of early succ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Visibility of any solu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La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st sav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ffect on custom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Possible Selection Criteri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ffect on custom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ffect on internal effectiven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ost benefi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ase of solu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Visibility of solu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5 Stage Project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ject proposal defin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mprovement obje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as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arge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ha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pecial resources requir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oposed tea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5 Stage Project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eam sele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ixture of skil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Job knowledge and skil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Enthusias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ard wor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kills matri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5-8 peop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Project Structur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63600" y="2828880"/>
          <a:ext cx="66150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2828880"/>
                    <a:ext cx="66150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Project Structur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roject own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roject team lead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roject ground ru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Project Owne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ember of steering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nsures quality principles always appli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nsures team members get help and training when need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nsures appropriate recogni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romotes project and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ts succ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Project Team Leade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ay to day manage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esponsible for right project approach and quality princip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esponsible for the team achieving the project objectiv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5 Stage Project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dentify possible cau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nvestigate and fi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nalyse data to identify root cau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dentify possible solu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lect and test s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f solution vi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ove to implementation satg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f solution not vi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Review posi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ossibly re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Quality and project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17560" y="2347560"/>
            <a:ext cx="75088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im of qual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o achieve lasting, continuous improv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5 Stage Project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ducation, Training and Commun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dentify and involve all those affected by the s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ducate them about the reasons why the change is being ma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rain the people you want to operate different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mmunicate with everyone to explain what is going 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et their views on the solution and imple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5 Stage Project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mplementation plann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duce a detailed implementation pl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Use critical path analysis  to plan timing and resource requir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 good plan makes communication much easi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5 Stage Project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mplementation plan includ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lanned activit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o is involv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raining they ne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easures during implement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Finance and resource requir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ritical pat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5 Stage Project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mplementation and Follow-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easure effect of implement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results are unsuccessful look for lesson o learn and not culpri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uccessful look for other areas where the change can be implemen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duce plans for control and aud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nsure recognition for contrib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Tools and Techniqu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38080" y="1523880"/>
          <a:ext cx="7696440" cy="42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69644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Achieving Lasting improvemen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87720" y="1980720"/>
            <a:ext cx="494496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nvolv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mmit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Traditional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dentify probl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et up a tea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ee what they can achie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ecide if it is good enough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eady           Fire           Ai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4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5eb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44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5eb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Traditional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ots of activity takes pla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ots of people get involv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onsiderable disruption takes pla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ittle benefits resul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Why a project team based approach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61840" y="2311560"/>
            <a:ext cx="61833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rovide visible succ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pread involvement throughout the busin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enefits of a disciplined approa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emove problem completel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llows complete focus on the probl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Project Ground Rul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ust have owner and lead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lear objectiv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efinite start and target da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roject remains open until permanent solution demonstra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ecord all benefit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ecognise all benefi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5 Stage Project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roject propos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ducation, Training and Communic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mplementation plann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mplementation and Follow-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5 Stage Project Approa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ment opportunity identifi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ject sele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ject propos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eam sele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ducation, Training and Commun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lementation plann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lementation and Follow-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ools and Techniq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14:19:24Z</dcterms:created>
  <dc:creator>Frances Crick</dc:creator>
  <dc:description/>
  <dc:language>en-US</dc:language>
  <cp:lastModifiedBy>Jayesh Patel</cp:lastModifiedBy>
  <cp:lastPrinted>2000-01-02T14:33:34Z</cp:lastPrinted>
  <dcterms:modified xsi:type="dcterms:W3CDTF">2001-08-18T15:46:19Z</dcterms:modified>
  <cp:revision>32</cp:revision>
  <dc:subject/>
  <dc:title>Photovoltaics</dc:title>
</cp:coreProperties>
</file>