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68C-2653-4A32-BEE7-26B0D319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E44-049A-4A91-A5AF-80D56088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CC3-F711-47ED-8EFA-B9208D86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95A-71E7-4AAD-902A-03F36F02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C43E-FFE0-4522-9BDF-1815CE7A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3F7F-D887-4D00-8268-F4E1C352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ABFC-B320-42C0-84EF-48E82815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6736-C097-4949-A8AF-FC0A93D2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C671-48BC-4F95-84BE-B7F3D6C3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6595-B430-4E2D-914B-5CBF25F8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B0F6-8959-40E3-A840-70D101ED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25D-C279-4BC1-BCBB-F53F75E2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C5C1-8800-4E8C-8565-70AD6B03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796F-6103-4DA0-9F94-EECEF5C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C787-533E-4A0E-8B9C-5DFE9069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6B3B-EDBD-4646-8F23-BAAC9042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C7E8-795D-4C8F-8AC4-6781867D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447-4FFA-4850-9823-18B208EB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DF5-8311-4AFD-BF8F-578A74F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B74-2F58-40F4-B028-F7E509C4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4F2-82B9-4B9D-803C-9F7BB166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4C4-8E6D-4F11-8503-3B51D83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C28-C84C-40B3-8743-0F361109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63F-798D-4A6F-8C3D-16E6F8CB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72A5-8E1A-4F4D-AEB4-BEAC13C13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867280"/>
          <a:ext cx="2971800" cy="7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867280"/>
                    <a:ext cx="297180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4E3-9CB7-4EAD-8CC7-8AF3DECC8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4572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by Mearsecroft Limi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228600"/>
          <a:ext cx="464832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ing and qual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activity is complete until it has passed the criteria (objectively) – meeting the requirements which is the best part of the planning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tness for purpos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ording to standards as outlined (e.G. Iso9000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t to perfec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lemented using the appropriate techniques and too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t to requirements and nee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ing and qualit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y factors determine how and what is delivered – consider a schedule and fight to maintain time constraint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is easy to establish a deadline – but look at the workloads and pressures of the outside worl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may mean developing a prototype for an earlier date, to suffice the customer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for error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gnise errors that may occur whilst implementing at early stag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imate or pinpoint erro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proactive measure to tackle erro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in time for mistakes (when they actually arise, if they do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pecification is the definition of the project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 statement of the problem, not the solutio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e that project activities and specification are understood by all concerned, from the originator, through to workers and the end-us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ad, worry and revis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e a written definition of what is required, by when and the agreed delivery dat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larity will reveal misunderstanding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mpleteness will remove contradictory assumption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igour of the analysis will expose technical and practical detail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greement forces all concerned to actually read and think about the detail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pecification is the first stage of the quality assurance – encounter any problems at early stages, errors in specification may be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obal – allocation of work which may be duplicated or underdone by other team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ces – never assume interfaces, discuss and understand what is required by the customer and stay consist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-scales – always underestimate the time involved – completion just before the agreed date is far better than just afte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rnal dependencies – the work may depend on other external to the project.  Highlight what the requirements are and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lways stay in conta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ources – identify all the materials, equipments and manpower that is needed for the project – there may be a need for funding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structure for the project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de what has to be done and how to allocate the activiti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work on how to plan and communicate task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individual qualiti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what goals need to be achieved and if they are viabl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break down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parate activiti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ify activity description so a criteria is follow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 parts are easier to understan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oothly control manage the project to ensure deliver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 allocation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gn task to team members at the same time in a sensible sequenc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according to skills and expertise – do not rule out team training and developm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s may and will be re-allocated to better suit the team needs – to fit peopl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is the main element when working together or within team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of published charts (e.G. Gantt) will make time management effective and help allocate resources and advertise shortcoming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-up milestones and meetings on a regular basis as part of the plan to review progres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jecture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 objective to set realistic estimates of the time involved in the project – provide an expectation for the team 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 the experience and statistical information from past projects to improve estimation skill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guesses of each simple task at the bottom of the work breakdown structure and look for the longest (critical) path through the sequence diagram (Gantt chart)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not guess!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 control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the planning phase is over (and agreed), start the ‘doing’ phase – two key elements of a project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estones – (clear, unambiguous targets of what, by when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ablish means of communication (all channels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estones usually maintain the momentum and encourage effort – allowing to judge individual progress and the progress of the project overall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ing control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st way is to construct milestones is to take timing information from the work breakdown structure and sequence diagram.  Important when running parallel activiti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ulling people together)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mething tangible that senior management recognise as progres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mething tangible that the team recognises as progres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vides excellent opportunity for quality checking and review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team all have shared goal (a common milestone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ir responsibilities to and dependence on each other are emphasis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ach person can provide a new viewpoint on other’s work (constructively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s are encountered and reviewed early in the implementation proces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 receive early warning signs of danger, promote co-operation, to motivate and monitor team involvement’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ular reporting through meeting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m and individual appraisal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vidual performance measur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and revising project schedules will involve interrupt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er work done to date and then review or alter pla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ck of communication can destroy team structures and confidenc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08:56:12Z</dcterms:created>
  <dc:creator>Faculty Of CSE</dc:creator>
  <dc:description/>
  <dc:language>en-US</dc:language>
  <cp:lastModifiedBy>Faculty Of CSE</cp:lastModifiedBy>
  <dcterms:modified xsi:type="dcterms:W3CDTF">2001-08-10T10:19:26Z</dcterms:modified>
  <cp:revision>8</cp:revision>
  <dc:subject/>
  <dc:title>Project Management</dc:title>
</cp:coreProperties>
</file>