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C20-AE5C-43B4-B0DA-3D42DE9E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575-7463-4AC7-A36A-12EE3A81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7FB-CB68-498D-97B5-C90CCBF7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9CF-674C-4982-841F-BB3FE2B1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323-EACA-4E13-8401-984C814F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69D-4D4D-4970-ADB8-FC044B7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9DE-E75B-4E81-A952-92243C1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FEE6-2B3D-44DF-8C15-77A24932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5EC-83B6-4F41-8607-206A9FFA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7D6-80B8-42B8-BAB4-71CB868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B93-0833-49F2-880E-7AD860A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6D8-004D-4AB7-B0EA-77F42588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23C-6C06-4EE4-88D5-EDB78B2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0E09-2D94-439F-AF0E-8FDBA108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CC5-EC40-44B5-AB12-D793391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6D6D-6908-4C1A-A37E-C8F6BD2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0D45-0E0D-413E-B81B-BCE79D0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03E-2A89-4B1F-A6F7-B38C45C5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A43-58C1-4738-8DBD-548B9CA4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812-A190-4BA7-821C-29F2D8B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883-35F3-42EB-8864-2EFAF88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79D-7F3C-4F1F-8448-C7C302A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458-43F0-47F9-B051-017AA70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5CA-2D95-4FEE-928A-131CDE6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8FC-9164-4A86-B37D-EDFB551C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867280"/>
          <a:ext cx="2971800" cy="7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867280"/>
                    <a:ext cx="297180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737-D8CE-4A0D-8BC3-F6E801198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esentation is a fast and potentially effective method of getting points and views acros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ective for planning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itoring and reviewing project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erring inform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on any research carried ou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nstrating products, systems or servic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ng using visual aid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ums for question and answer ses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points to consider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– important part and will determine the outcome within a few minut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ing – limit the presentation to 30-40 minutes (human has short attention span and will ‘switch’ off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objective – introduce the aim and what should be achiev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audience – determine the type of people you are addressing and consider terms and figur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– devise a structure so the flow is consistent  and reads well and importantly summaris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erarchical decomposition – break the presentation into small parts and sub sections so the audience can follow, and provide evidence of finding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stions – be open for question and address issues that are rais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esentation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the audience attention – depends on the environment and how people are address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blish a theme – get people thinking about the topic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 – outline what is going to be cover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rapport – build a relationship with the audience, break the ice – joke may help and will depend on the type of present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luding – summarise all points and the outcome – where is it going?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visual aid – attract the audience – OHP slides, PowerPoint or video.  Pictures are more effective then text or voi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 Ski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very(5 key facets of the human body)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yes – constant eye contact with audie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voice – should be projected, not shouted or muffled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ion – be polite and smi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earance – dress according, portray authorit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ce – stance and posture should convey a formal manner, stay relax and keep hand still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techniques to assist in winning the audience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 an impress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, repea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w a sig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w a pictur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k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in speech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and sweet, to the poi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hearse (time it – within the allocated time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x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1:47:05Z</dcterms:created>
  <dc:creator>Faculty Of CSE</dc:creator>
  <dc:description/>
  <dc:language>en-US</dc:language>
  <cp:lastModifiedBy>Faculty Of CSE</cp:lastModifiedBy>
  <dcterms:modified xsi:type="dcterms:W3CDTF">2001-07-26T12:41:47Z</dcterms:modified>
  <cp:revision>9</cp:revision>
  <dc:subject/>
  <dc:title>Meeting Preparation</dc:title>
</cp:coreProperties>
</file>