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57A-734D-4A42-A610-6918C459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23E-FCA2-426A-B6FB-A1BFF0B9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FCE-8C32-49C9-BFBC-CE044EF8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10C-6C67-4E19-9EF7-9D8D3736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DE39-7B54-4A36-965A-82E778B1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9C4-9FC7-477F-B90E-1057F701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55DE-02C1-461C-899D-54F32318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F7B7-703A-4D22-BDB8-5AA2C578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D339-887C-4A4E-AC7B-3F1AAF3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65B4-60A7-49CA-8164-6AFD1339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F4B-B45E-449E-B936-BF1D6DC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7CC-5BBE-4C6A-A142-C62B58F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E88D-B596-4700-BB80-25928E4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CB0-99E9-4103-962C-5627723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DF93-343A-49D0-864D-CF32007E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7317-4C9D-492C-A719-5AD29ACC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9ED0-48AE-4A9F-99FB-1D696FD6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ACD-6476-4E3A-A891-13E36C1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346-9B99-4BC2-8EC2-5F5C929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4BD-A7B6-4EE0-A897-746876A3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A25-3CC7-446A-B6AD-83E88A0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A38-01B5-4774-AF1B-41588D3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064-B867-49A6-9AC0-AD4EF99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54A-9136-4E5A-8145-8F32E8A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D8D-2CB0-4E56-80F4-30A07E4B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867280"/>
          <a:ext cx="2971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867280"/>
                    <a:ext cx="2971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C56-A747-47BE-8270-40BF6AAFE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Prepar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Prepar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s enable communication between management or teams, and highlight any issues of concer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imately form of managed verbal convers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 can be semi-informal in an team atmosphere or more formal for senior management or team leaders/manager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ing a meeting enable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ve points to be rais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essional contribution of ideas and view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/review of plans (minutes should be taken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Prepar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initial guidelines to conform to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uld the meeting be cancelled – is there a need to hold a meeting, what are the gai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o should attend – is the meeting for management, supervisors or employe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long – there must be a strict time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etings can drag 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– is there a structure to the meeting, points to rai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– clarification of points and summar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 of conduct – maintain some manner of authority and adhere to constraint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ing method to purpose – what is the reason for the meeting – information or make deci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 – welcome ideas and remarks and take into consider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 – log all or some of the points made and by whom (useful for future meetings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1:47:05Z</dcterms:created>
  <dc:creator>Faculty Of CSE</dc:creator>
  <dc:description/>
  <dc:language>en-US</dc:language>
  <cp:lastModifiedBy>Faculty Of CSE</cp:lastModifiedBy>
  <dcterms:modified xsi:type="dcterms:W3CDTF">2001-07-26T12:06:42Z</dcterms:modified>
  <cp:revision>2</cp:revision>
  <dc:subject/>
  <dc:title>Meeting Preparation</dc:title>
</cp:coreProperties>
</file>