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69C-8DE7-4EBE-BBBA-895930B2E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er amrket penetration means low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 Sub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i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folio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 produc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cing Sub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le of pr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roaches to pric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cing and the produ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gal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cing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cing methods and tac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erience and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ensive pr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bution Sub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ock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 of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l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ots/wareho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motional Sub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es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nel sell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arch objectives – what do we want out of th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on specification – what details do we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arch method –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rvey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k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eld research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estionnaire design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lot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dent selection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efings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alysis –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ort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dget – cost by pl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gency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sp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ult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keting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s the organisation adopted the marketing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stomer sovereig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all functions accept the idea of customer sovereig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ng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es the organisation work together to satisfy customer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lity of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Marketing equal to the other functions in the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ket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enough marketing research carried out to respond to changes in customer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ganisati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organisation structure flexible enough to respond to changes in customer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itical success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es the organisation recognise the importance of critical success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uld the organisation benefit from a matrix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brand managers/product managers/market manager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es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salesforce aligned to customer buying behavi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keting inputs/Marketing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 of numbers aware of the product/Cost of 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units sold last year/ Number of units sold this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ual cost/Budget planned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937-FC90-4851-9635-49F3D837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D6D-6AA5-45EA-A379-39715B9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20B-7E00-4698-BD27-FE57EB6D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F77-9C0B-439F-93EB-C91E9D55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45B-0196-44F4-98E8-775D61AA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3DF-F52A-4400-927C-8EF0D975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24B8-F2FF-4090-BF34-C6F8713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2AB-707E-4604-8AEF-FFC444C5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017-AB5C-434A-BA31-4C099C6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8B0-1077-4452-B470-2574F30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495-A18D-4889-81BF-6D6A9C4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28E-E974-44BE-9940-B4DF8B0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A6D8-AE23-42F4-BE0F-F7C254F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6D74-C2EA-4BE3-97B0-BFE085F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84E2-FAF1-477C-B114-2B71CF96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35B-EB37-4897-8119-D2642996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56D-8224-4499-845F-0B55B5A2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D0E-19FA-413A-AD04-8337B353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BED-8201-405F-B511-B05683B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670-817A-4C4A-AB01-83F86CC7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0B8-F7BD-450C-85A0-A0F37E9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217-57F1-4642-9969-6899FE43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FEF-BC53-4251-AEE7-10DFEFE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A20-C511-47D7-9888-1369E6F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41B-3E15-458E-9DCB-CD20820A5FD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94360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5F5-89C8-4960-906E-C7EDF35FCD8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19520" y="4419720"/>
          <a:ext cx="4647960" cy="11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46479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Marketing Planning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324480" y="26668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 21step gui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2. SWOT Analysi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81040" y="2422080"/>
            <a:ext cx="618192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217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9840" y="25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3. Situational Analysi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8640" y="33523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fit marg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duct range and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03240"/>
            <a:ext cx="36576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9440" y="21337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352320" y="24382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3880" y="4611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4. Decide Key Issues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hare decision pro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ate iss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5. Develop Broad Ai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ocus on activ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tegrate various stakeholder intere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 contain open objec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road aims should be consistent with the mis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ust be refinable into quantified and timescaled object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6. Identify Major Proble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trategic focus – major, long term probl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actical plan – minor, short term probl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7. Analyse Major Proble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standard analysis tech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 brainstorm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enerate alternate sol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te sol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8. Develop Quantified  and Time Scaled Objectiv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For each objectiv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ne strate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For each strateg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ne set of tacti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9. Consider Alternative Strategi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the Ansoff Matri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s current market satur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sider Market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ackage mod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-packag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iche mark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sitionio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petitor analysis should also be used to measure strategic choices should also be analys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0. Draw Up Detailed Tactical Pl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 tactical plan must cover all the marketing mix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d consid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ush pull pro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kim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netration pri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1. Draw Up a Marketing Research Pl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search objec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formation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search metho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Questionnaire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spondent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rief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tinge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Process of Market Plan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98800" y="2311560"/>
            <a:ext cx="49464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ceive the brie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front the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dentify issues and develop strate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velop the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ol and conting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l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2. Consider Organisational Iss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rketing concep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stomer sovereign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orkng togeth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quality of fun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rket 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rganisation stru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trix organi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alesfo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3. Consider Organisational Cultu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commend internal marke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ell the organisation what we are trying to achie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4. Consider Financial and Human Resource Implica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pital invest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urn on invest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reditors/deb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dg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inancial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5. Draw Up indicative Budg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rket 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ala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isplay mater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xhib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de advertis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tinge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6. Draw Up Schedule Showing Timing/Sequ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ndica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m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se Critical Path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antt cha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icrosoft proj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7. Review Procedures and Control Mechanis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hi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dgets are to be used as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art of management accounting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tios are import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ople attend review meet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hen and for what purpose are review meetings he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8. Contingency Plan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hat if scenari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9. Re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oes it fit together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s it consistent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hat are the areas of weaknes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an we improve it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20. Implemen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ction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ction in sequ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rson responsi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stimated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21. Control and Re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trol meas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udgetary contr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atio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st-volume-profit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et present value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stribution cost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Quality contro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anagement sci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o to step number 19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Receive the Brief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0" y="3157560"/>
          <a:ext cx="2681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157560"/>
                    <a:ext cx="2681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523880" y="1828800"/>
          <a:ext cx="219888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828800"/>
                    <a:ext cx="2198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Not prescrip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Confront the Iss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nduct a marketing aud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arry out a SWOT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nduct a situational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4648320"/>
          <a:ext cx="457200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648320"/>
                    <a:ext cx="45720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Identify Issues and Develop Strategi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4. Decide key iss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5. Develop broad ai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6. Identify and analyse major probl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7. Develop and analyse major probl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8. Develop quantified and timescaled objec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9. Consider alternate strategies and select the most appropri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" name="pe01460_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47168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Develop the Pl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0. Draw up a detailed tactical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1. Draw up a marketing research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2. Check for organisational issu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3. Make recommendations for internal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4. Consider financial/human resource implications of the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5. Draw up indicative budge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6. Draw up sche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7. Specify/review procedures and control mechanis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0" y="2438280"/>
          <a:ext cx="19717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438280"/>
                    <a:ext cx="19717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Control and Contingenc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8. Outline contingency pla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9. Re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20. Implement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21. Control and Re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1. Marketing Aud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rganisatio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ystem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095880" y="2286000"/>
          <a:ext cx="225432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86000"/>
                    <a:ext cx="2254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4:19:24Z</dcterms:created>
  <dc:creator>Frances Crick</dc:creator>
  <dc:description/>
  <dc:language>en-US</dc:language>
  <cp:lastModifiedBy>Jayesh Patel</cp:lastModifiedBy>
  <cp:lastPrinted>2000-01-02T14:33:34Z</cp:lastPrinted>
  <dcterms:modified xsi:type="dcterms:W3CDTF">2001-08-18T15:42:59Z</dcterms:modified>
  <cp:revision>37</cp:revision>
  <dc:subject/>
  <dc:title>Case study: PV facades</dc:title>
</cp:coreProperties>
</file>