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663-EDC7-4DF3-9F78-5D5EA5DB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3FE-5AC0-4D2E-9FF1-AF74DCCC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F0F-6A2E-4B1C-8F57-25E814F3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C37-B5FD-4D29-9061-424CD77B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18D6-73DE-459E-A23C-2943AD81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D95E-386F-4D51-87EC-77E34C6C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B538-C1B4-419F-9FA5-8A097FC2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04FC-BE7B-428B-BDB5-EA2E7505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A4E2-85F3-4104-A0A7-93844E8C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F3BA-D529-48B7-8C65-EAD4526F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679A-6509-4154-BAC2-D5909E11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842-2E99-4868-90BC-779DEEB7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BB90-697F-48F8-85B3-57A8DAA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1F69-071D-4FAE-9D36-20757672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0DA6-1515-4B9F-AA2F-03BE9431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B030-E94B-4423-A0F0-2D9CD94C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A684-FDB1-4D65-82BC-1FB82717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018-1F3E-4EF7-887F-DFF9B693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F7D-EC11-4965-9844-CB281B07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484-2D65-4442-8F1E-3DF9F03E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399-E1C4-4339-B3DB-6A55BCC9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42B-BA10-4FF7-9396-A78BFF3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701-2C4A-4783-B8B9-0BA7E64E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CE3-9F97-4580-A693-CC3E435A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FDB0-C160-48FA-86DA-B8B85D5B5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867280"/>
          <a:ext cx="2971800" cy="7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867280"/>
                    <a:ext cx="297180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B850-633E-4F80-B068-A7CEFFF32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dership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4647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by Mearsecroft Limi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228600"/>
          <a:ext cx="464832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dership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ership and management are two interconnecting value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 in leadership is one of the assets possessed by a successful manager which may be used to maximise outpu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ie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s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ff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3962520"/>
            <a:ext cx="4419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eader must be willing to take the responsibility of providing a vision that unities people behind his/her wisdom’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dership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steps to becoming a leader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eam members and resources willing to support leadership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athise with others and assess their understanding of the situ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a discussion with members to highlight to build team identit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courage team communication to build team identit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and organise the team by setting realistic goa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goals are achieved, recognise and reward teams or individua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ote the team in the greater environm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yalty – leaders accept responsibility where managers often overse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 and accept blame when things go wro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ebrate group achievement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ve credit where credit is du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dership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ure effectivenes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e project goals are me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e that the team gives 100%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ep the team motivated and happy at all tim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l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vidual achievements should be rewarde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gnise training and developm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gate responsibilit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eer advancements (promotion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 opportunities for group members to become acquaint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 the importance/value of the group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 people feel importa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rify goals – deliverabl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progres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nowledge and apprais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dership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egation falls to the leader – unless tasks are assigned, teams can be inefficient and demotivate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sign that delegation is failing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m motivation is down/morale is dow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ing late on projects (individually or few members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eam is confused/conflicting/tens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o many questions are thrown about deleg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natively, better delegation give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efficienc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reased motiv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ed skil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ter distribution of the work through the group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dership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s for delegation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suitable candidate for a specific task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e that person, explaining the task and making sure what the task entai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 sure that person has the necessary authority to do the job properl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e on a regular basis to provide support and monitor progres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pt alternative approaches which may be suggest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grater independency but be aware of the task and criteri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ise a job well don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 mistakes – teach as well as learn (both leader and the person doing the task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o not get too clo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(looking over his or her shoulder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dership Skills - Communic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 is the most important element in any part of an organisation and involves transfer of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oce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u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gul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tro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 back for confirmation – double check what is sai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back for confidenc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rther clarification – is this what you meant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stency check – the act of writing may highlight defects/omiss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formal stage – a statement of the accepted posi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idence – communicate previous errors and ignorance of peopl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 back ground for context – scope with quest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dership Skills - Communic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ctical step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rtiveness – the ability to control temper under any circumstanc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rontation – staying professional and self control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ek information – ask open questions and encourage teams to be ope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 other speak – listen and allow other team players to air their views and then provide constructive feedback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0:52:27Z</dcterms:created>
  <dc:creator>Faculty Of CSE</dc:creator>
  <dc:description/>
  <dc:language>en-US</dc:language>
  <cp:lastModifiedBy>Faculty Of CSE</cp:lastModifiedBy>
  <dcterms:modified xsi:type="dcterms:W3CDTF">2001-08-10T10:17:33Z</dcterms:modified>
  <cp:revision>6</cp:revision>
  <dc:subject/>
  <dc:title>Leadership Skills</dc:title>
</cp:coreProperties>
</file>