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DD0-EAAC-4C62-A700-7745EE08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FEF-1547-49AF-BB5C-0C0005CE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3D7-5175-458E-814D-3845E3E1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DF9-CFBE-455A-A4AD-BF38697A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CE75-960E-4750-82FF-0FDBBE23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022D-D6DF-4617-8C17-11AA4B56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C6AB-5859-443D-93ED-1E12EB59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BAE9-CDD8-4733-894F-3B2B8723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A3FC-1AE8-44CB-92C6-D190C641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546F-7490-4F7F-B8C2-29B227C5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4B9B-D673-4EF1-95DA-E36D8622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8B1-9FC1-4B06-9F02-F5E70506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BA89-75F1-4444-9637-C035F225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2DEA-1B8B-49FB-B0DF-A9BD4F6C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43EB-6034-4400-A995-D50A3FA7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16D7-471C-4448-A220-D57798FB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5115-8CEA-41A7-BB5B-D2D7B926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CB5-FB53-450D-85B1-719F62A6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DEE-E989-434C-8950-E6D6BAD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5C4-F9D9-4226-864A-1F852A1A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962-2B5B-4212-B378-0FA7E89A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A46-8633-4DDF-BC96-721FE2FB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F88-77AD-4074-A6CF-7B24ECDE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957-1230-4E17-B1D5-182C9520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9212-0888-4EFB-9BD7-43BD44EC3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943600"/>
          <a:ext cx="297180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3A54-7603-4AFF-A413-B09703F16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0570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Human Factors of a Team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057400" y="5105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d by Mearsecroft Limi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4862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28600"/>
          <a:ext cx="464832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uman Factors of a Tea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ople are the most substantial resource in industry and perform especially well in motivated team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rtain personalities and traits can be underestimated – and is  reflection on the way people behave and act within team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haviour - is individual and effects attitudes towards other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ssential to build rapport to eliminate negative attitude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tivation - term used to describe processes (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nstinctiv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ation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by which people seek satisfactio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at drives them - personal goals or money incentive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867280" y="5943600"/>
          <a:ext cx="297180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uman Factors of a Tea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vational mod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867280" y="5943600"/>
          <a:ext cx="297180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800280" y="2590920"/>
            <a:ext cx="7543440" cy="2590560"/>
            <a:chOff x="800280" y="2590920"/>
            <a:chExt cx="7543440" cy="2590560"/>
          </a:xfrm>
        </p:grpSpPr>
        <p:sp>
          <p:nvSpPr>
            <p:cNvPr id="133" name=""/>
            <p:cNvSpPr/>
            <p:nvPr/>
          </p:nvSpPr>
          <p:spPr>
            <a:xfrm>
              <a:off x="3768120" y="2590920"/>
              <a:ext cx="173124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Behaviour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68120" y="3507120"/>
              <a:ext cx="173124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Response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68120" y="4572720"/>
              <a:ext cx="173124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Behaviour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47600" y="2590920"/>
              <a:ext cx="173124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Physical need/drive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47600" y="3507120"/>
              <a:ext cx="173124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Stimulus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280" y="4572720"/>
              <a:ext cx="2349720" cy="60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Social/intellectual/emotional needs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89000" y="3507120"/>
              <a:ext cx="173124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Outcome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65160" y="2590920"/>
              <a:ext cx="197856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Satisfaction/Frustration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65160" y="4572720"/>
              <a:ext cx="1978560" cy="45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Satisfaction/Frustration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3040" y="305064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913040" y="3963240"/>
              <a:ext cx="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33920" y="3963600"/>
              <a:ext cx="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633920" y="2898000"/>
              <a:ext cx="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54800" y="305064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4800" y="3963600"/>
              <a:ext cx="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4200" y="3811680"/>
              <a:ext cx="197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05080" y="3811680"/>
              <a:ext cx="197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uman Factors of a Tea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certain factors that lead to motivation and dissatisfaction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hiev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itsel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satisfaction (hygiene factors)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ervisio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condit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s with peer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 lif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uman Factors of a Tea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hievemen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ving a challenge to meet a goal or objective that is recognis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gnitio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ling appreciated, seen and noted by manageme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itive - doing well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tive - what needs improvi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ms - expectation for the futur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itself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it interesting - engage staff atten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llenging - maintains a sense of personal achieveme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 - share work with each other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ponsibility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vancement through gaining responsibility for tasks or team membe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vancemen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ng-term - issues of promotion and salaries/benefit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rt-term - issues which can be individually controlled, responsibility, skills and knowledge or experienc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uman Factors of a Tea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ints towards being an effective manager (team working)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standards of personal integrity - deal with everyone fairly, encourage and promote group worki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vide opportunities to build on peoples strengths and educate weakness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assignments that stimulate personal and professional growth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vide opportunities to practice self responsibility - using own initiatives and attempting new task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cognise people on the basis of achievement and promote seniorit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uman Factors of a Tea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ints towards being an effective manager (team working)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flic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dicate that it is safe for mistakes to be made - welcome ideas and new means of working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dicate that it is safe to disagree - respect varied opinion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sagreement does not mean it is necessarily wrong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ctively listen to ideas or view and let the speaker be heard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vide reasons for rules and guidelines where they are not self-evident - explain and justify certain request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uman Factors of a Tea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ints towards being an effective manager (team working)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eedback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ppreciate work by staff and ask them to discuss ‘how do it happen or how does it work’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vide clear and positive performance standards - expectations (quality)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aise in public and correct in private - acknowledge achievement in front of the team but correct mistake in privat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mportantly - blaming is not the issue, solutions are the prime element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void overcorrecting - excessive managing in the enemy of autonomy and creativity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11:38:50Z</dcterms:created>
  <dc:creator>Faculty Of CSE</dc:creator>
  <dc:description/>
  <dc:language>en-US</dc:language>
  <cp:lastModifiedBy>Faculty Of CSE</cp:lastModifiedBy>
  <dcterms:modified xsi:type="dcterms:W3CDTF">2001-08-10T10:16:37Z</dcterms:modified>
  <cp:revision>9</cp:revision>
  <dc:subject/>
  <dc:title>Presentation Slides Time Management</dc:title>
</cp:coreProperties>
</file>