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0BF-929A-46B3-BEB5-22DEBC64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7BA-A309-41DB-807E-EB148E45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68C-D399-45F0-935D-89C8013A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233-CF01-4829-9005-03A558FB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CD9-751C-4520-8EC5-5F0A066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31D-2093-4DEF-A521-720A3F31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1D4-6BC9-4AF4-B3A2-434C4EF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207-076B-4D33-B16D-54EFFAEE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233-3974-4911-9690-51638AB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16C-DFB0-4A1C-8C6B-F9CA1D2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957-03C9-4BE2-89A2-E83D2E7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54E-B2FD-4D23-9BF1-2EBED60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hyperlink" Target="http://www.mearsecroft.co.uk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3A0-9102-400C-BBB0-53F68058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57456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086600" y="6248520"/>
          <a:ext cx="182880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248520"/>
                    <a:ext cx="18288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mearsecroft.co.uk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69480" y="3833280"/>
            <a:ext cx="762660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7520" y="838080"/>
            <a:ext cx="670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porate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38280" y="2438280"/>
          <a:ext cx="42260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42260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07920" indent="-907920"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uctural Analysis of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Effect on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On balance growth of each firm in the industry will slow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Can be severe with high industry concentr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Reaction by firms where the segment is of high importa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Depends on management style of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Confront two types of entry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uc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Up front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Start up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Expected reaction of incumbent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Lower pric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Increased marketing co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Retaliation will occur only if it pays to do s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Retaliation more likely if fixed costs of competitors hig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Price cutting in commodity (like)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Concepts for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Reduce produc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New technolo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Larger pla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More modern facilit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Shared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Buy in with low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Offer a superio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Discover a new 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Introduce a market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Use piggyback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Entry into New Business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Price of acquisition is set in the market. However t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Market is im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Buyer has superior inform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Number of bidders is low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Economic conditions po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Selling company is sick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Seller has other objectives to maximising sale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Seller may want to get out of the business forcing the floor price 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Seller has estate problem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Seller needs capital/perceives capital constraints to growth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Seller has lost key management and has no replacement/perceives management weaknes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Buyer may have a unique ability to operate the acquired busines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Can improve operation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Fits in with firms development plan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Acquisition assists in existing busines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Beware of other irrational bid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cquisition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Sequenced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Acquisitive entry into one strategic group or segment then internal development into anoth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May low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Total c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Risk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Management development cos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Retali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Allows time for firm to accumulate capital for shifts in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v. Portfolio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Portfolio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Simple framework for charting different businesses in firm portfoli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Helps deter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Resource allo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Developing strate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Corporate review of business uni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Answers some questions in competit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Portfolio Techniqu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Growth Shar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Compares, inversely, industry growth with relative market share and defines four distinc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Cash cows - low growth, high market share produces a healthy cash flow to fund other objectiv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Stars - High growth, high market share require cash to sustain growth yet have strong market position and high profi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Dogs - Low market share, low growth but often modest cash users. Cash traps due to weak competitive po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Question marks - Low share in rapidly growing market. Require large cash injections to finance growth but are weak cash generators due to poor competitive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Market must be defined proper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Relative market share is a good indicator of competitive position and relative cos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Market growth is an indicator of cash require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Not very useful in determining strategy in a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Portfolio Techniqu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mpany Position Ind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Compares Business position and industry position and then determin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Measures of industry attractivenes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Siz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Market grow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Pric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Market divers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Competitive struc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. Profit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. Technical intens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i. Social, environmental, legal and human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ompany Position Indicator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Measures of business attractivenes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Siz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Grow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Sha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Pos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Profit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. Margi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. Technological pos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i. Strengths and weakness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x. Ima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x. Impact on the environ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xi.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. Determinants of the Intensity of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Threat of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arriers to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conomies of Sca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Product Differenti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Capital Require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Switching co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. Access to Distribution Canne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Cost Disadvantages Independent of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41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1. Proprietary product technolog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2. Favourable access to raw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3. Favourable loca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4. Government subsid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5. Le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6.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vii. Government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xpected Reta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ntry deterring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ompany Position Indicator cont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If both industry and business score highly - bui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If either scores highly with the other medium - bui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.  If both are medium - ho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g. If one is low and one high - hol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h. If both are low - harves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.  If one is low and one medium – harv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. How to Conduct an Indust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How to Conduct an Indust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Who is in the industry - search by sic code -companies hous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Published industry studies - govern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Annual repor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Trade associa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Trade magazin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Business and local pres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. Company directories and statistical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h. Tax 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How to Conduct an Industry Analysi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Industry 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. Standard setting org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Un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Chamber of Commer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Local and national gover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. Watchdog group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Financial communi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Inside th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. Market research staf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Sales for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Service or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Competitors former employ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. Engineering staf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Buyer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R&amp;D de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Field Data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Service organis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Trade association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Investment bank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Consultan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Audito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. Commercial bank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. Advertising agenci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</a:t>
            </a:r>
            <a:br>
              <a:rPr sz="4000"/>
            </a:br>
            <a:br>
              <a:rPr sz="40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echniques for Assessing Industries and Competitors</a:t>
            </a:r>
            <a:br>
              <a:rPr sz="1800"/>
            </a:br>
            <a:br>
              <a:rPr sz="1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eview of Areas Cov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ompetitive Strategy Main Ind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. General Analytical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Generic Industry Environ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3. Strate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Structural Analysis of Indust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the Intensity of Industry Compet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nalysis and Competitive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 Industry Defin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525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eneric Competitive Strateg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 Competitive Strateg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Stuck in the Midd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Risks of Generic Strateg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525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ramework for Competitor Analysi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onents of Competitor Analysi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etitor Response Profi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etitor Analysis and Industry Forecas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etitor Intellig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0" indent="-525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Market Indica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ctions by a competi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ypes of Market Sign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History in Identifying Signa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istraction by Marke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ndustry Instabi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ommitm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ocal Poi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nformation and Secrec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uyers and Sell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uyer sel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Purchasing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imensions of Competitive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 and Firm's Profitabi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mplications for Strategy Formul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 Map as an Analytic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ndustry Evolu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Basic Concep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volutionary proces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Key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the Intensity of Competi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Intensity of Rivalry among Existing Competi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a. Numerous Competi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b. Equally Balanced Competi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 Slow Industry Grow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. High Fixed or Storage Cos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e. Lack of Differentiation or Switching Cos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f. Capacity Aug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g. Diverse Competi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h. High Strategic Sa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. High Exit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. Specialised Ass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i. Fixed Costs of ex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ii. Strategic interrelationship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v. Emotional Barri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v. Government and Social Restri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j. Shifting Rival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</a:t>
            </a:r>
            <a:br>
              <a:rPr sz="4000"/>
            </a:br>
            <a:br>
              <a:rPr sz="40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echniques for Assessing Industries and Competitors</a:t>
            </a:r>
            <a:br>
              <a:rPr sz="1800"/>
            </a:br>
            <a:br>
              <a:rPr sz="1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743200" y="990720"/>
          <a:ext cx="36576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990720"/>
                    <a:ext cx="36576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the Intensity of Competition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Pressure from Substitute Produc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Bargaining power of Buyers high i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Buying large volum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Significant fraction of buyers co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Standard or undifferentiated purchas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Few switching co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Low profits (of buyer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Backward integration by buye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. Product unimportant in qua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h. Buyer has full inform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Bargaining power of Sell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Few sell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No substitute produc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Industry unimportant to sell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Product important to buy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Supplier product differentiat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High switching co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. Credible threat of forward integration by se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b. Analysis and Competitive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dentify Strengths and Weaknesses relative to the indust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dopt offensive or defensive actio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Position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Influenc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Exploiting chan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Diversifica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c. Industry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efinition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sources of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irrelevant for strategy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to define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eneric Competit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eneric Competitiv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 Competitive Strateg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Overall Cost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Efficient facilit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Cost reduction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Experien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Tight cost control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Overhea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Requir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Substantial capital investme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Access to capital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Process engineering skill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Intense supervis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. Easy manufactur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. Low cost distribu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i. Structured organis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ii. Target based incen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No marginal accou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Cost minimalisation 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R&amp;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Serv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Sales For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Adverti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3 Competitive Strateg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esign or brand im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Technolog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Fea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ustomer ser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. Dealer networ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.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.   Strong marketing abiliti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 Product enginee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Creative flai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High corporate reput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.  Long tradi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Unique combination of skil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Strong cooperation from channe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iii.Coordination in R&amp;D, product development, marke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x. Subjective measures and incenti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x.  Amenities to attract skills &amp; creative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3 Competitive Strateg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3. 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Particular buyer grou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Segment of product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Geographic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Requires a combination of above skills (i.e.in list 2.), resources &amp; organisa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</a:t>
            </a:r>
            <a:br>
              <a:rPr sz="4000"/>
            </a:br>
            <a:br>
              <a:rPr sz="40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echniques for Assessing Industries and Compet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eneric Competitive Strateg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Stuck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Result of failure of strategic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irm l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apital 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Re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Firm s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Low 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Loses high volume and high margin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Firm must decide one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Takes time to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eneric Competitive Strateg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c. Risks of Generic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Cost Leadershi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Technology chan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Low cost learning by newcom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Inability to see product or markets chan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5. Infl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6. Differenti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7. Too high a cost on differenti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8. Differentiating factors disappea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9. Imitation narrows perceived differenti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0. Focu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1. Cost difference wide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2. Differences in products erode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3. Competitors out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i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omponents of Competito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Future goa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Business Unit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 Financial Goa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Attitude to risk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Values and belief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Organisational struc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Control and incentive system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. Accounting syste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. Manag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i. Unanimity of man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x. Composition of the boar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x. Contractual commit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xi. Regulatory, antitrust, government or social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Future Goals cont’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rporate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   Company resul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i. Overall goals of par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ii. Strategic importance of business 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v. Why did they get into this busines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v. Economic relationship between business uni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vi. Values and belief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vii. Generic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viii. Sales targets/constraints placed on business uni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ix. Diversification plan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. Organisational struc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i. Importance of unit as part of who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ii. Compensation and control of units managemen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iii. Where does corporation recru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iv. Regulatory, antitrust, government or social constrai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xv. Emotional attachment to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Future Goals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 Portfolio Analysis &amp; Competitor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9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 How is each business classifi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Which do they think are cash c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Which units are candidates for harvest/divest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Which units represent defensive moves to protect other uni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v. Which units have l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Future Goals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mpetitive Goals and Strategic Pos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etter to look for positions which do not alienate com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void warf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sumptions of the 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f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Relative pos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Historical or emotional identifi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Organisational valu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Current strategy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f th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Cultural, regional or national varia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Future dem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Significance of industry tren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Goals of its competi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Conventional wis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Perceiving Blind 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Outdated conventional wisdo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Outmoded n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sumptions of the Competitor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Historical Indications of Goals and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Comparative financial performa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History in the marketpla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Competitor sta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Competitor reaction to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Rational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Emotion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Slow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Managerial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Functional background of top managers e.g. financial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Types of strategies previously employed by manag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Other business they have experience of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Major events they have lived throug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Their writing/speaking/technical background/patent activ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Other firms they have contact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g. Consultants used by 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Current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Key operating policy in each functional ar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How functions interrelat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Explicit/Implic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sumptions of the Competitor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Likelihood/timing/nature/intensity of reaction to competi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Core 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In each functional area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Best at/worst a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Tests of consistency of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Ability to g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Will capabilities increase/decrease with grow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In which area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Capacity in people/plant/skill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Sustainable growt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Quick response 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Uncommitted cash reserv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Reserve borrowing pow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Excess plant capac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Unintroduced new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ompetitive Strategy Main Ind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. General Analytical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Generic Industry Environ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3. Strate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sumptions of the Competitor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036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ility to adapt to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Fixed/variable cos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Cost of unused capac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Can competitor adapt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Competing on co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Managing more complex produc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Adding new produc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Competing on serv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5. Escalation in market a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Can competitor respond to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Sustained high infl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Technological change (obsolete plan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Recess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Increased wage rat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5. New government regul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. Exit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. Constraints of shared manufacturing 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Staying pow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Cash reserv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Unanimity of manageme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Long horizon on financial goal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Stock market 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ompetitor Response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Offensive mov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Satisfaction with current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63560" indent="-520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s it like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Probable mov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Strength and seriousness of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63560" indent="-520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What will it gai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Defensive Cap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Vulner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Provo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Effectiveness of retal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Picking the battlegrou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Market segment or dimensions of strategy in which competitor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6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ll pre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6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Least enthusi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63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Most uncomfor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Find a strategy where competitors are frozen ou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Create mixed motives or conflict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 Competitor Analysis and Industry Fore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. Implications of the competitors m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2. Are current firms strategies converging - is a clash like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3. Do firms have sustainable growth rates that match industry forecasts - is there a gap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4. Will probable moves have implications for the whole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ramework for Competitor Analysi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d. The Need for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ompetitor Intellig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ata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Public repor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Speech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Pres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Sales for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Firms custom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Firms suppli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. Inspection of produc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h. Estimates by fir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Knowledge from firms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Collect da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Compi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Catalog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Dig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Communicat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v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rket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rket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Actions by a competitor that provides an indication of its int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Bluffs/truthfu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Warning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Earnest commitmen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2nd form of competitor analysi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May only be seen by continued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Types of Market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Prior announcement of mo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Prior announcements of moves does not mean action will be take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May be trying to pre-empt competi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Can be threats of action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Can be tests of competitor sentimen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Can be a means of communicating pleasure or displeasure with industry developmen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g. Minimising provoc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h. Avoid costly simultaneous mov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A means of communicating with financial commun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j. Could be used to coalesce internal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Announcement after the f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Often info difficult for competition to obta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Surprising info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Insures that other firms know the data which can influence behaviou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Can be plain wrong or misle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rket Indicator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Public Discussions of Industry by Competito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Foreca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Laden with signa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May expose assump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onscious or unconscious attempt to get competitors to use same assumpt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Implicit plea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Praise/Criticism of compet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Competitors Discussions and Explanations of their own Mov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Forums/publi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An attempt to explain logic of the mov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Pre-emptive gestu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Communicate commi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Competitors Tactics Relative to what they COULD have d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Important signal about motiv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If inconsistent with self interest may be concili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How are Strategy Changes Initially Implement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Peripheral or core (product, market, pr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rket Indicator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7. Divergence from Past Go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E.g. Quality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8. Divergence from Industry No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Normally an aggressive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9. Cross Par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Competitor response to a mo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Is a choice by the defending firm NOT to counter initial move DIREC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Attempt not to start a set of destructive moves yet show sign of displ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0. The Fighting B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Protects the core brands of the company yet competes with any new br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Can be meant as warnings/deterrents/sh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1. Private anti-Trust Sui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a. Harass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Can be dropped at any 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Extremely high cost may hurt small compan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an be selectively activated if threat deve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rket Indicator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 History in Identifying Signals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. What move has the firm used 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What has the firm used moves to achieve in the pa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3. What pre-empted the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. Distraction by Market Signals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. Too much attention can be counter produ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. Competitive 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Structural Analysis of Industry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the Intensity of Industry Compet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nalysis and Competitiv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 Industry Defin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Generic Competitive Strategies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 Competitive Strateg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uck in the Midd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Risks of Generic Strateg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ramework for Competitor Analysis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onents of Competitor Analysi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etitor Response Profi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etitor Analysis and Industry Forecast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etitor Intellig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Market Indicators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ctions by a competit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Types of Market Sign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History in Identifying Signa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istraction by Market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A central characteristic of competition is usuall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Firms mutually dependen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Feel effects of each others mo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Prone to react to th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So moves depend on reactions of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A firm can pursue interests of industry or consider only self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Industry instability 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Will a move touch off widespread warfa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Is there continuity of interaction - promotes stabi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Are there multiple bargaining areas - one gain offsets another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Are there interconnection between firms - 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Types of Competitive mov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Brute force -superior forces and capabilities to force an outcom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Cooperative or Non Threatening Moves - moves that improve the firm's position and their competito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Threatening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How likely is reta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How soon will they retal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How tough will be reta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Can retaliation be influ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Defensive m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Moves in retaliation to a competitors 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est defence is to prevent a battle al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iscipline - immediate retaliation always - aim at initi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enying a base - deny targets with strong competition, strong research, attack test marketing, have special deals (load up customer inven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Commitmen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ourier New"/>
              </a:rPr>
              <a:t>to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Guarantees likelihood, speed, vigour of retali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Influence ways competitors perceive the compa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Publicise comm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Consistent behaviou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Buy plant rather than r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g. Permanent staff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h. Realigning other products to accommo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Commit compan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Stick to the mov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Retaliat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Take no damaging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5. Focal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A logical point where an industry is in balan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Logical price poin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Percentage mark up rul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Round number divisions of market sha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The quicker it is reached the earlier s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d. Information and Secre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nformation is crucial and expensive to ob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Selective disclosure of info is a crucial resource when making competitive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t may be difficult to balance 1&amp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i. Buyers and Se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Buyers and Se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Buyer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Buyers rarely an homogeneous group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Differ in nee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Differ in structural position and growth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Growth rate of indust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Growth rate of its primary market segmen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Change in market share in the industry and its key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Costs of servicing different buyers v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Order siz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Direct/distributo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Lead tim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Steadiness of order flow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Shipping c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Selling c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g. Customisation/mod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Bargaining power of bu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Purchasing quantities relative to sal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Alternative supplie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Threat of backward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Cost of switching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Buyers and Seller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Price sensitivity of bu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Cost of purchase relative to cost of product or purchasing budge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Penalty for product failur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Savings or effectiveness of produ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Quality strategy of buyer to which product contribut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Profitability of buy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Cost plus buy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g. Is buyer well/poorly informe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h. Is buyer cost motiv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Firms should sell to most favourable bu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If possible!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All depends on individual buyer AND sell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Low cost strategy firms can still sell to all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Non low cost strategy firms must be selective about buy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Build up switching cos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Try and shift the decision maker to one less price sensitiv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g. Broaden buyers choice away from price to distinctive 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. Responsive customer servic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i. Provide engineering assistanc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ii. Provide credit or rapid deliv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v. Create new product featur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v. Resale valu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vi. Maintenance/down time cost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vii. Fuel cos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viii. Revenue generating capacit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x. Installation cost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h. Eliminate high cost buy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. Monitor favourability of buyer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Buyers and Sellers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Purchas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Key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Stability of competitive poo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Competitiveness of poo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Optimal degree of vertical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Allocation of purchases among qualified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. Spread purchas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Avoid switching cos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Seek alternate sourc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v. Promote standardis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. Create threat of backward integ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vi. Use tapered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Creation of maximum leverage with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ii. Analysis within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Dimensions of Competitive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Specialis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Brand identif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Push versus pul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Channel sel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5. Product qual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6. Technological leadershi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7. Vertical integr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8. Cost posi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9. Serv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0. Price polic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1. Leverag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2. Relationship with parent compa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3. Relationship to home and host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dustry Instabil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mov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mit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ocal Poin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formation and Secrecy</a:t>
            </a: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Buyers and Seller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uyer selec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urchasing strateg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imensions of Competitive Strateg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 and Firm's Profitabil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mplications for Strategy Formul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 Map as an Analytical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4 distinct types which will over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Full Line/High vertical integration - low manufacturing costs, low service, moderate qual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Narrow Line/Assembler - high price, high technology, high qual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Full Line/Assembler -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Narrow Line/High vertical integration - highly automated, low price, low 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Pig in the middle - Moderate line assembler - medium price, high customer service, low quality, low pr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Mobility B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Entry barriers depends on the particular strategic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Shifting from one group to another also provide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Mobility barriers and group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Differences in skill/resourc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Goal or risk postu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Early 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Bargaining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Threat of Substit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ic Group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5. Rivalry amongst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f multiple strategic groups in an industry then forces of competition may not be faced equally by all firms in the indust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Number of strategic groups affects rivalry in the indust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Factors affecting rivalry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 Degree to which different strategic groups are competing for same custome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Degree of product differentiation between the groups created by their strateg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Numbers in strategic group and the relative size of the grou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Market share of group (especially if they are equal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Strategic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3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Bran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Cos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Technolog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. Strategic Groups and Firm's Profi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1. Characteristics of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a. Growth of dem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Potential for product differenti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Structure of supplier indust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Aspects of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Characteristics of Strategic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a. Height of mobility barri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Bargaining power of the gro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Vulnerability of the group to substitut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Exposure to rivalry from other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Firms position in strategic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a. Degree of competition in the gro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Relative scale of firm within the gro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Costs of entry into the gro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The ability of the firm to implement its chosen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Implications for Strategy For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Which strategic group do we compete i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Must match strengths and weaknesses of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Factors that build/reduce mobility barrie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Factors enhancing/worsening bargaining power (purchase and selling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Factors insulating/exposing the group to rivalry from other grou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Scale relative to others in the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Factors reducing/increasing costs of entry into the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Implementation of strategy relative to competitors (strong/weak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g. Resources/skills available to overcome mobility barriers and move to more desirabl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What strategic opportunities face the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Create a new strategic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Shift to a more favourable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Strengthen the current group or the firms position in the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Shift to a new group AND strengthen that groups structural po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What are the ri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. Other firms entering the strategic group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. Reduced mobility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iii.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within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Strategic Group Map as an Analytic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etermine key mobility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Qua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Br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Ima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hann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Identify marginal group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Chart directions of Strategic Mo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Analyse tren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Predict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iii. Industry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ndustry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as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Product Life Cyc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Buyer inertia - buyers must be convinced to buy, some expor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Poor quality products, many different variations, frequent design changes, basic desig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High market costs, high pr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Over capacity, short production runs, high skilled labour content, high production costs, specialised channe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Changing production techniqu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Best period to increase market sha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Key function are R&amp;D, engineer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ii. Few competito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x. High risk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x. High prices and margins, low profits, price elasticity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Product Life Cycle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More buyers, uneven quality, significant exports, few impor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Tech and performance differentiation, more reliable, competitive product improve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Advertising cost/sale dro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Under capacity, shift towards mass production, scramble for distribution, mass channe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Practical to change price or quality imag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Many competitors, many new entrants, mergers, casualt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Risks can be taken here as growth covers them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ii. High(est) profits, fairly high prices, recession resistant, good acquisition climate, high profit/earnings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Product Life Cycle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. Mass market, saturation, repeat buying, falling exports, rising impor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Superior quality, less product differentiation, standardisation, less product changes, trade ins significa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Market segmentation, efforts to extend lifecycle, broaden line, service and deals more prevalent, packaging important, advertising competition. Lower ac/s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Optimum capacity, increasing stability of processes, lower skill, long production runs, distibution channels pared to optimum, high distribution costs due to broad lines, mass channe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Bad time to increase market share, change price, image or quality image, key is lowest c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Price competition, shakeout, increase in private brand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i. Falling prices, lower profits and margins, increased stability in market share and prices structure, poor acquisition climate, tough to s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Product Life Cycle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 Sophisticated buyers, no exports, mass impor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 Little product differenti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 Low ac/s and marke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v. Substantial overcapacity, mass production, speciality chann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. Cost control only strate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. Fewer competitors, many exi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vii. Low price margins, falling prices (but may rise in late dec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al Analytic Techn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ndustry Evolu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asic Concep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volutionary proc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Key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Industry Evolution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Evolutionary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ynamic processes that occur in every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Long run changes in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emographics e.g. income elastic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. Trends in need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ii. Changes in relative positions of substitut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v. Changes in the position of complimentary produc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. Penetration of the customer grou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i. Produc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Changes in buyer segment served e.g. calculators sold to professionals - now everyone has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Dynamic processes that occur in every industry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Learning of buyers - products tend to become more like commodities - lapto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Reduction of uncertainty - less risk attracts more entrants - solar energ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. Diffusion of proprietary knowl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. Accumulation of exper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g. Expansion or contraction in scale e.g. move to mass production - reduce unit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h. Changes in input costs and exchange ra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i. Product innovation - digital wa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j. Marketing innov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k. Process innov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l. Structural changes in adjacent indust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m. Government policy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n. Entry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ndustry Ev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y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Will the industry consolid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ndustry concentration and mobility barriers move togeth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No concentration takes place if mobility barriers are low or fall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Exit barriers deter consolid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Long run profit potential depends on futur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Changes in industry boundaries becaus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Potential entra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Buyers and suppliers vertical integr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Firms producing substit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Firms can influence industry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irms strate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Firms sensitivity to external f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2. Generic Industry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78000" indent="-378000" algn="ctr">
              <a:lnSpc>
                <a:spcPct val="100000"/>
              </a:lnSpc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Fragmented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Fragmented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ommon Fragmented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.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2. Retai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3. Distribu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4. W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5. Metal fabr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6. Agricultural prod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7. Creative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Fragmented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b. Reasons for Fragmented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. Low entry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2. Absence of economies of scale or even dis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3. High transportation co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4. High inventory c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5. Erratic sales fluctu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6. Now size advantage when dealing with buyers our suppli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7. Low co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8. Diverse product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9. Heavy creative cont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0. Local close contr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1. Local image and conta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2. Diverse market ne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3. High product differentiation (esp. if based on imag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4. Exit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5. Local regul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6. Government prohibition of concent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17. New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Fragmented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Overcoming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Create economies of scale or experi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Standardise diverse market need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Neutralise or split off aspects most responsible for fragment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4. Make acquisitions for a critical ma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5. Recognise industry trends ear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6. Increase skill level or resour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7. Drive out complac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oping with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If no economy of scale consider tightly managed decentralis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Build efficient, low cost facilities in multiple loc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Increase value ad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4. Specialise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a. Product type or 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. Customer ty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c. Type of or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5. Focus on a geographical are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6. Bare bones/no frills produ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7. Backward integration to lower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Fragmented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. Strategic Tr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1. Seeking dominance often fail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Extreme strategic discipline is always requir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Beware of over centralis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4. Do not assume competitors have same overhead/profitability ne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5. Do not over react to your new products as maturity will bring back 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f. Formulat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1. Decide what is the structure of the and competitor posi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Understand why the industry is fragmen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Think about how fragmentation can be overcome profitab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4. If so, where should the firm be position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5. If not, what are alternatives for coping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. Competitive Strategy in Emerg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tructur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Technological uncertain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Strategic uncertain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High initial losses followed by steep cost reduc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Embryonic companies and spin off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First time buy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Short time horiz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Subsid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8. Early mobility barriers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Proprietry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Access to distribution cha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Access to raw materials and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Courier New"/>
              </a:rPr>
              <a:t>d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ost adva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ic Industry Environment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Fragmented Industrie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mon Fragmented Industr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Reasons for Fragmented Indust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Overcoming fragment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ping with fragment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ic Tra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ormulating Strategy</a:t>
            </a:r>
            <a:br>
              <a:rPr sz="1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Emerging Industrie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uctural Environ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nstraints to Industry Develop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arly and Late Markets - Which markets will ope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arly/late?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ic Choic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orecasting Techniqu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Which should we enter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Emerging Indust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onstraints to Industr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Difficulty in obtaining raw materials or compon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Rapid escalation of supplier pric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Absence of supply and distribution chann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Customer perceives short term obsolesc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Lack of standardisation creates customer confus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Erratic product qua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Credibility with financier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8. Regulatory approva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9. High co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0. Response from threatened players - substitute producers,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Emerging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Early and Late Markets - Which markets will open early/l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Nature of the 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. How lar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How obviou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Competitive position improvement for custome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What are his competitors do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Technological advantage which yield significant benefi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Costs of product fail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Switching co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Support services require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Cost of obsolesc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Barriers by government or unio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8. Resources required to cha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9. Comfort of buyer to cha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0. Personal risk of the decision 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Emerging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trategic Ch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Shaping industry structure - set the rules of the ga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Balancing firm self interest with industry image, credibility and customer confusio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Changing roll of suppliers and distribution chann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Shifting mobility barriers - firm must find new defences, nature of entrants may chan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Early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Pioneers can gain enhanced reput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Learning process initiated ear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Customer loyalty will be grea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Early commitment to suppliers can gain cost/supply advantag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u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Early competition and market segmentation changes so skill change may require significant co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Cost of opening market high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Early, small competition will be later more formidab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Technological changes will require further investment to kee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Emerging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6. Tactical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arly commitments to suppliers lead to favourable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Financing can be timed to take advantage of positivity in the 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7. Coping with competi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Pioneers may spend highly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efend high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Responding to competitors with little chance of becoming market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b. Best spend resources in building own strengths and developing the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c. Consider licensing competition to use skills of new entrant (e.g. market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Emerging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Forecast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Estimate future evolution of product/technology in terms of cost/product variety and performa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Select a number of past examples with consistent product/technology scenarios that encompass this evolu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Create scenarios of which markets will open up and their size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Develop the implication for competition and the probable success of each competitor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Examine your own position and determine your strategy for each scenario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Make the appropriate decis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. Which should we en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Emerging industry attractive if it has above average return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Firm can create a defensible position in the long term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Do not enter if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They are growing rapid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Incumbents currently profitab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Ultimate industry size promises to be l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i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ompetitive Strategy in Declin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Competition in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Un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Rate and pattern of dec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ucture of remaining demand po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auses of dec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Technological substitu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Demographic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Shifts in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xit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Durable and specialised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Fixed costs of exi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Strategic exit b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nterrelat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Access to financial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Vertic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Information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Managerial end emotional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Government and social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g. Mechanism for asset dispos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6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Volatility of rival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Declining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b. Alternatives to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Investing in aggressive competitive actions (pricing, market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Purchasing market sha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Purchasing then retiring capac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Reducing exit barriers for oth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e. Demonstrating publicly commitment for the produ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f. Demonstrating strength through competitive mov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g. Developing and disclosing information that reduces uncertainty about decl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h. Invest in the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2. 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Identify a market segment that is stable and shows high retur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Invest in building position in this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3. Har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a. Reduce or eliminate invest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Reduce number of mode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Shrink number of channels employ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Eliminate small custom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e. Erode suppor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4. Quick di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y in Declining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c. Strategy for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Analyse the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a. Is industry structure potentially profitable in decl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b. Exit barriers us/industr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c. Who will leave quick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d. What are the strengths/strategies of those that rem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e. At what point will they pack 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Mincho"/>
              </a:rPr>
              <a:t>f. Our relative strengths re pockets/segments that re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d. Pitfalls of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Failure to recognise dec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War of at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Harvesting without clear 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. Preparing for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Minimise investments etc that will raise exit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Emphasise market segments that will be favourable in dec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Mincho"/>
              </a:rPr>
              <a:t>Create switching costs in these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v. Transition to Industry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ndustry change during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Slowing growth - more competition for market sha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Firms increasingly selling to experienced buye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Competition emphasis changes towards cost and 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Adding capacity requires precision thinking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Manufacturing, marketing, distributing, selling and research methods undergo chang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6. New products and applications harder to come b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7. International competition increas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8. Industry profits often fal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9. Dealer margins fall but power incr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mplications of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Which strategy to adop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Rationalise product mix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Price correct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Process innovation and design for manufactur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Increase scope for purcha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6. Consider buying cheap assets from distressed competito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7. Lock in good buyer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8. Check cost curves (Unit cost/Vol. of product) to consider overall cost leadership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9. Compete international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0. Di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Transition to Industry Maturity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. Pitfalls of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Company's self perception and perception of the indust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Caught between strateg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Beware of investments to build share - they may become cash tra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Beware of giving up market share in favour of short term prof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Do not react irrationally or resent price compet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6. Anticipate and pursue change in the industry - do not resent 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7. Improve and aggressively sell existing products and do not overemphasise creative and new produc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8. Take care if clinging to higher quality as an excuse for not meeting aggressive pricing and marketing mov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9. Beware that excess capacity may try and force you away from your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Organisational Implications of 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Standards for growth and profit may need to be scaled dow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Greater discipline and less slack in all area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Scale down expectations for staff enhance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Build company loyalty and develop motiv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Recentralis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Generic Industry Environ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etitive Strategy in Declining Industries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eterminants of Competition in Declin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lternatives to Declin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trategy for Declin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itfalls of Declin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reparing for Decli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ransition to Industry Maturity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dustry change during tran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mplications of Tran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itfalls of Tran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Organisational Implications of Matur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ndustry Transition and Management</a:t>
            </a:r>
            <a:br>
              <a:rPr sz="16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ources of Competitive Advantag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mpediments to Global Compet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volution of Global Compet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lternativ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mpacting Tr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Transition to Industry Maturity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Industry Transition a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Rapid growth replaced by cost control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Marketing and cross function coordination skills replace building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v. Competition in Global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Sources of Competitive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Comparative cost advanta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Production economies of sca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Global experi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Logistics economies of sca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Marketing economies of sca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Economies of scale in purcha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Product differenti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8. Proprietary product technolo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9. Mobility of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Impediments to Global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Transportation and storage co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Different product nee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Establishing distribution channel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Sales for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Local repai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Sensitivity to lead tim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Complex segmentation within geographic marke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8. Lack of word dem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9. Different marketing task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0. Intensive local servic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1. Rapidly changing technolog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2. Governmental impedi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3. Perceptual or resource impediments of the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Evolution of Global Competi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Environmental trigger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Increased scale econom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Decreased transportation and storage cos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Rationalised or changed distribution channe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Changed factor cos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Narrowed national economic and social circumstanc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. Reduced government constrai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Strategic Innov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a. Product redefini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b. Identification of market seg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Reduced cost of adapt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d. Design chang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. Deintegration of produ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f. Elimination of constraints from perception an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ompetition in Global Industr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d. Competition in Global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Governmental industry policy and competitive behaviour with national firm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This firms relationship with host govern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Different competitive strategies to suit marke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Difficulty in competit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ltern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Broad line global competition - compete worldwide with full product lin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Global focus - compete worldwide in a particular seg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National focus - different nation, different focu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Protected niche - global competitors excluded, extreme attention to government to ensure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Impacting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Reduction in differences between countrie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More aggressive industrial polic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Protection of distinctive asse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Freer flow of technolog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Gradual emergence of new large scale market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6. Competition from newly developing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3. Strategic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. Analysis of Vert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Analysis of Vert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Benefits of Vertic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Economi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Combined ope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Internal control and coordin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Inform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Avoiding the marke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Stable relationship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Tap into technolog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Assure supply and/or deman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Offset bargaining power and input cost distortion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5. Enhance ability to differentiat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6. Elevate entry and mobility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7. Enter a higher return busines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8. Defend against forecl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sts of Vertical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Overcoming mobility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Increased operating leverag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Reduced flexibility to change partn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Higher overall exit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5. Capital investment barr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6. Reduced access to supplier or consumer research/know how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7. Balancing upstream and downstream capac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8. Dulled selling/purchasing incentiv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9. Differing managerial 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Benefits of Vertical Integ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Issues in Forward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Improved ability to differentiate the produc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Easy access to distribution channel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Better access to market inform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4. Higher price re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Issues in Backward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Proprietary knowledg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Long Term Contracts and Economics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1. Can be similar to vertical integ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2. Tapered integ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Reduces costs of integ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Threatens full integration to other supplier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Protects firm from problems with fluctuation in deman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3. Quasi Integra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a. Minority equity investmen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Loans or loan guarantee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Pre-purchase credi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Exclusive arrangement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e. Specialised logistics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f. Cooperative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Strategic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Analysis of Vertical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enefits of Vertical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osts of Vertical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ssues in Forward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ssues in Backward Integr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Long Term Contracts and Economics of Inform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llusions in Vertical Integration Decision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Capacity 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lements of the decision to expan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auses of Overbuilding Capac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Limits to Capacity Expans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Pre-emptive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iii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Entry into New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cquisi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Sequenced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Portfolio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How to Conduct an Industr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Benefits of Vertical Inte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urier New"/>
              </a:rPr>
              <a:t>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f. Illusions in Vertical Integration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1. A strong market position at one stage can be extended to anoth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2. It is cheaper to do things internal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3. It makes sense to integrate into a competitive busines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4. VI can save a strategically sick busines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5. Experience in one link in a vertical chain qualifies management to direct up and downstream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. Capacity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apacity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Elements of the decision to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Determine firms options for size/type of capacity add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Assess future demand and costs of inpu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Assess probable technological change and probability of obsolescenc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Predict capacity expansion by each competitor based on its expectations about the industr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Determine industry supply and demand balance and industry prices and cos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Determine cash flows from capacity addi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Test analysis for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apacity Expansion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auses of Overbuilding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1. Commodity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Demand is generally cyclic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Products are not differenti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2. Techno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Capacity is added in large lump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Economies come with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There is a significant learning curv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Long lead times to add capac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There is an increased minimum efficient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Change in production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3. 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Significant exit barri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Capacity is forced by suppliers easy offering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Builds credibilit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Competitors are integrated downstream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Capacity share affects demand - go to the biggest firs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Age and type of capacity affects demand - go to the most modern 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auses of Overbuilding Capacity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4.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Large number of firm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Lack of credible market lead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New entran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Early mo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5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5. Informatio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Inflation of future expectation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Divergent assumptions or Perception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Breakdown of market signal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d. Structural chang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Pressure from financial comm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5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6.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ourier New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. Production orientate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Asymmetric aversion to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57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7. Govern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7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a. Perverse tax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b. Desire for an indigenous industr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c. Pressure to em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apacity Expansion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c. Limits to Capacity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1. Fina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2. Future uncertain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3. Previous over capacity period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4. Increased costs of new capacity due to additional control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Mincho"/>
              </a:rPr>
              <a:t>5. Changed management structure/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Capacity Expansion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d. Pre-emptive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1. Announce large capacity expansion relative to market size to stall competi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2. Announce large economies of scale relative to total market demand or significant experience cur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3. Ensure credibility of announcem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4. Signal pre-emptive move before other firms a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5. Will competitors to back down? If so make the m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iii. Entry into New Busi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Entry into New Busi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Identifying Target Indu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Profitability of a firm 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Mincho"/>
              </a:rPr>
              <a:t>Rival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Bargaining power of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Bargaining power of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b. Stable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n a stable industry profits of entrants = cost of (height of structural barriers + retaliation expect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Why are there no other ent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Do we have specia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t rarely pays to enter an industry in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c. Industries in disequilibr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New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ndustries with rising entry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Industries providing poo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 Mincho"/>
              </a:rPr>
              <a:t>d. Industries with ineffectual retal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Cost of retaliation outweighs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Paternal dominant firm or group of l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Mincho"/>
              </a:rPr>
              <a:t>Entrant exploits incumbent 'conventional wisdoms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Mincho"/>
              </a:rPr>
              <a:t>Through Internal Development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e. Firm is able to reduce conventional entry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f.  Firm is able to influence industry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MS Mincho"/>
              </a:rPr>
              <a:t>g. Industries with a positive effect on its existing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7:15:25Z</dcterms:created>
  <dc:creator>Geoffrey</dc:creator>
  <dc:description/>
  <dc:language>en-US</dc:language>
  <cp:lastModifiedBy>Geoffrey</cp:lastModifiedBy>
  <dcterms:modified xsi:type="dcterms:W3CDTF">2008-09-28T12:04:25Z</dcterms:modified>
  <cp:revision>22</cp:revision>
  <dc:subject/>
  <dc:title>Competitive Strategy   Techniques for Assessing Industries and Competitors</dc:title>
</cp:coreProperties>
</file>