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ECE-B9C7-4D71-B957-A5306DF2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E01-DCFD-4D6B-80C6-1B2001FC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D8F-1080-4E99-BE12-C2C9B357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D56-7AED-44DF-906B-FB624D8E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0FDE-8CC1-42ED-A692-481062B6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19A-3320-40CD-927A-73007D8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5E8-E039-4695-BDE2-34BBDB17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D953-BCC9-4F08-94FF-C963A28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67B-216D-474F-8BB0-306A34C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9B8E-3463-4BE7-9EAB-9199EBD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5D2-7808-4582-B869-19F9149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F4B-8762-4642-AAF7-888C6E0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E37-A4EC-46C2-9225-B69E421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6FBA-ECF8-437F-B360-18B19BB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59C-3486-4431-95D1-165D2F78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FEC-6581-4859-A3CE-C3B9EAEF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216-AF23-4313-910A-4021A05E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A5F-18B3-48C2-8007-0CBB01D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B31-A4EB-431B-9901-FDC26DFD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833-0EA9-4C50-B57F-F07B6ED2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648-4D81-4C6E-A37E-23AD9AC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61D-4835-411A-B594-6EB5160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3E3-991E-468B-910A-9115425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F6A-C4F6-4B85-88EA-41F2E1F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F1B-6158-4D57-9AAD-724CA950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D60-5E96-4EF6-9FAD-524526A1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0570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nagement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4862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 and privac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vacy is a issues that raises questions on many occasions, and customers need to be guaranteed that data from the transactions remains privat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gislation may be in place (data protection) but with the new era of technology may not reflect what is conducted over the interne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-commerce opens many channels for communication and information can easily be captured by third part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-mai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b registra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ssaging servic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nsac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 scope for privacy issu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 and privac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ustomer agreement is the key issue and involve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customer consenting to the use of data which can be manipulat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organisations have this clause but what they fail to do is tell the customer that anyone in the company may use the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many cases customers are unaware that certain information is being targeted or they are filling in questionnaires for this u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Organisations must ensure that data is maintained securely and is solely used for the purpose intend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 and data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is the connection between customers and CRM developmen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is collected relating to each individual customer that exists within the organisa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the data is not managed effectively, it may be redundant and useless, hence not efficiently contributing at CR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ch managed data can assist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r behaviou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derstanding,anticipating and matching customer need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tegorisation of products and servic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ffective analysi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managemen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l time CRM database applica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ild up-to-date customer databa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ation of systems (access customer information from a central point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sure the delivery of quick responses to customers and enhance communication channe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min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tracting the relevant data using techniques to identify patterns and trends with the customer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r preferences and transactions can be pin pointed comparing with other customers, or sole target for promo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sonalisation of each customer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at products are buy and whe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uantities etc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bile CR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the advances in technology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bile computing in the forms of wireless devices (WAP) are potential advances for CRM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venient customer front-end to deliver products or services remotely through functionality associated via web sit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ying and selli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rder processi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rder tracki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anging details etc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Relationship Manage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is a strateg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nderstanding and satisfy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s’ need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s’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haviou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s’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y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tter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M is the heart of business success as customers are the key ‘element.’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M ha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olv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the technological component of business transactions toda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M bring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gether information on customers, sales, marketing and distribu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velopment to aid businesses gain an insight into the behaviour of the customers and the values they bring to the compan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t can help contribute towards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viding better customers services/suppor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ffective call centr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duct sal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ff efficienc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mplify marketing and sal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dentifying and developing potential new custom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ase in customer revenu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me examples of CRM data which may be collected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ponse to campaig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der process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les and purchase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ount inform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 (web site)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stomers services.Support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mographic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b sales dat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Data is usually in raw format and contains a collection of figures and numbers.  Once collected it is then translated into information that can easily be rea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 is a strategy and a tool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d to combine information, systems, processes and policies in a competitive environment in order to attract and profit from custom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siness to business (B2B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net (EDI links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les partn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pli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siness to consumer (B2C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fter 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M strategies can include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ligning business processes - paving the way and restructuring customer services and delivery and daily operation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use of a wide range of technologies to deliver and change the way business is conduct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ing a variety of communication channels which remotely connect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mployees internally and externall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stomers with the organisa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mployees with customer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net and interne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centr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action within the organisation - customers who buy products, buy more than just the physical item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upplier has detai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ounts have detai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rketing has detai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systems are integrated so that the customer information is shared but also easy to reach and extrac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ust understand issues of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misu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rivac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s technology as a means of reaching the consumer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eate databases that analyses and forecasts sales figures and buying patter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web technology as a means of gathering and providing inform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vide both products and services to enable customer interac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eate awareness and the advantages of technology and the benefits it can bring to the custom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hance strategies to make effective use of customer data and build relationships - customers have the need and want which the organisations can deliv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M and customer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action between the organisation and its custom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ndamental success due to the nature of e-business compared with the traditional face-to-face approach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ing customers requirements first hand due to the availability of inform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st knowledge bases used to gather data which the customers is sometimes unaware of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web sites and the ways e-business is conducted has made it easier for customers to enquire for them selves or even process their ord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l time virtual response whilst on-line, with the impression of a face-to-face communication channe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1:38:50Z</dcterms:created>
  <dc:creator>Faculty Of CSE</dc:creator>
  <dc:description/>
  <dc:language>en-US</dc:language>
  <cp:lastModifiedBy>Faculty Of CSE</cp:lastModifiedBy>
  <dcterms:modified xsi:type="dcterms:W3CDTF">2001-08-10T10:11:50Z</dcterms:modified>
  <cp:revision>16</cp:revision>
  <dc:subject/>
  <dc:title>Presentation Slides Time Management</dc:title>
</cp:coreProperties>
</file>